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dt" idx="31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33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DB67-8A0A-47D2-8031-F80CBB5FE1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85B-D2BE-41BB-ACCF-2C431EC9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30C-3168-4B2B-A345-BB0228AD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33F2B-1787-4CF7-8B45-29D8920C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F067E-6DA1-4731-812E-7A95723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B3511-8A40-4327-A223-13D8888B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98741-D20B-4B07-8ADF-EE24524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366E0-7465-4BD7-8EDF-C053E33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3589-55B3-49E8-9F68-06FD6C4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C9B12-4575-46D1-935B-EA35E468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A0140-BC51-4C22-BA05-CA12F400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F9D5C-D37E-4B9E-9798-FB2A103D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EC440-800D-45F1-83AB-A2319A4E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0F4-4F4E-4524-B5F3-F15A09A6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EF729-63BD-4D1E-A14B-F4CD8AE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C644B-99F5-4621-A4B7-112C989F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FCB99-CFC8-45D3-BFD7-BF193FD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ADC83-CDDB-4843-A15B-A917FA61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1C6CA-8101-4703-923B-84180D3A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9EA43-8846-4934-BE1D-3AC9EF6C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C0E0F-D2AB-46EE-AE25-DA38E68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EF228-EC87-4328-A5F7-97108D2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294F5-AA1E-45AA-A18D-BD62E924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9FC62-C325-416A-A7BE-870301A8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2F6-B8DA-4334-AA98-BBFFF277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DECA8-4261-4C03-9445-CB87AAD1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7F0C-EE67-4654-9264-733D4B17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E5C0-9365-43B7-8119-EEA627BE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AEE2-1397-4938-90EC-8EA0A8D8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B7C8-3B16-4901-8C15-D62272E4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B4D8-E377-4420-8652-7C35C646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E3B3-4F75-4A51-BD6D-46E5A576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BD8-AAD4-4946-80C7-C0C6693C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7D9-C534-4773-9589-6AA7A3E0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8C36-7D59-47DB-A77F-06315627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B838-B4C1-4978-BC65-ADBA86D4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9F51-0174-4007-A667-9BCC676B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B1AF-7595-4F1A-8FBB-CA45F6DC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AED4-CD07-407B-A7EC-5A90D475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FD0A-F67C-4D3D-82DC-50E1BE99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56AA-F207-4FBA-9C8A-2F3D299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D664-EAD0-445A-91FC-53C4737C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2F2A-C6B3-4F77-968E-CBEE63E4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7CC7-889F-4780-B7A1-754F5789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B15-AB7C-4B1C-999B-07420030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9577-F175-44E8-9B46-E83ACD4F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FA10-66FC-496F-A970-F26DD7B8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59EF-436B-4CC1-8574-7A97B8BC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D0391-9995-4830-858C-B3C9CE10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5B49-DFA5-4C42-896E-256C4083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3356-0C89-4FC1-B0E2-B5F7A20F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D3C7-05DA-41C5-ACC0-5D9C7230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239D-51AA-4455-BFED-71AD3C63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0595A-8C80-4CB4-A6C0-184E6EFB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A598-76DD-4237-B01E-80220121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2C4-9B35-44CB-9FCE-1E5EA094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ADE3-C45C-4622-9551-E3ED8F2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E0677-CCC0-450A-BFD5-2951F3D6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2EC4-2985-431F-A93E-BD863C0E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BCE1-E0E6-44E7-A5C0-623EAEF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63F9-56D0-4CCB-8B97-4BB9D24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7EA0D-502A-4D7B-8D87-CAD8E29E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7801-C054-4DCA-9091-A87FE784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5F54-C7FF-42DE-9B34-6FE147A2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1BA0-AA5B-4010-BF85-B14DE85E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BF089-26BD-4391-AE68-4D8C3129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B32-1991-4469-A123-5B08F490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EB200-2F10-4141-8132-B465F307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FB760-4F0C-4C0F-9940-39F56CF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B6777-5C36-407C-AF71-F0C21AAC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3EE75-50B5-4418-BADD-59B3D008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8DA4-4312-4E69-9B4C-2033439E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FFFA-E2D9-4A1C-B24A-3EDCCEA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5D71D-3691-4C7F-95EC-3607517F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B8451-CAC2-41BE-A02D-3478A53F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27F8D-83A8-47E3-A574-69F09E47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2B91-638F-46F2-B3C3-2E790B31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A19-2A0B-49EB-8494-2BCA357C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11097-73DC-451F-A826-FE1AC8A1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731F0-1D24-4C4A-BD1C-F2CBD269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1FA98-ACC5-495F-BA36-F0AD9083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DF113-7380-41CF-BD5B-8FFF4D1E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DD54D-F6F9-4E9E-A854-1C213F19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1128A-33D5-491C-90A5-6E7C3082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920F-148B-4AA7-8AEF-70DC40F7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4137-4B00-472B-A65C-3B618B2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3EDC9-CB38-495D-B2B9-6279943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E2A0-1FC7-48AE-9759-C5A1DED5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B4D-2090-42E7-A982-DAD98E67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55EF-1B49-4C6D-95E4-019B57E5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5024-562F-42F9-A130-BD0EC269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1A568-03F8-4BDA-9922-0AC5FFA4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3B99D-F8AA-4517-8AEB-7076AF10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59B7F-F432-47D0-B69C-7B609F2F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34A5E-7278-4F48-8BDB-8D56DE0B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342C6-8F61-40C6-8CC0-D136328D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0492E-070F-44D3-9E8E-B15ED974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A9AC-2877-4CD6-9813-70B64AAD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92A73-7EF6-410B-9BAC-B972600D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8CD-33C7-4121-8258-D3AD14DD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26342-74F4-4C83-93EC-2B1017C7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CCF2E-61D0-4CB4-829E-CB07C650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9A4D4-0A1A-4E87-9A4E-C543293C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FFE15-4EB3-465F-8339-C37FD1AB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CE331-6861-4016-9802-B73FB8E1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C4423-616F-4E17-AE43-3ABEC516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ED09E-CE85-49DE-B80C-3D84623A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F5A78-F706-4F21-9633-EB3D561B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46A7E-E8A2-4A3A-8EAD-D752E088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B9F2A-BEA2-41D4-8EFD-2DA6B7C9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0ED-6CE6-4B5B-8E03-BDC15315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33F8F-9D22-4C49-9C59-7E8FB960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232A0-3249-450C-8B4E-B0989E37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173AF-2543-40CC-A1A7-E4E27A6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7EE64-0A09-4288-A149-EB66A7C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D537D-F86A-4D9F-9338-1D8CA8F1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C0B7E-C16C-4E6A-84B4-E24BE11E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737D6-5CB6-4F2A-AC40-750F207A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4BBE-B845-4ED4-B5F7-6EEBE70F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4C266-D954-4759-8C25-227C5A35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77DEE-70D3-4290-A73F-F38F85B1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2C66-9200-45B9-B522-AE11F1FD5A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48CC-A6DC-492B-97EF-1663164D98A2}" type="slidenum"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DBEC-A1CA-4A63-87C8-079948375F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EAE4-53C9-4488-992D-86943B53CE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3325-1CD4-46BC-B0DF-E4B0CCCFF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3BE-D4AC-4388-8FC4-5DABF71ACF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4CD7-EF47-48C2-9B96-8C129F9EC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FD7D-B75A-43BC-B6D3-9FDA0BBAAC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BCEA-49B3-4552-BE20-525E2AAD20BF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9" name="Rectangle 3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0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31" name="Picture 5" descr="URBBANND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FA57-2995-421E-ADA1-96218F62568D}" type="slidenum">
              <a:rPr b="0" lang="en-US" sz="1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2050920" y="2133720"/>
            <a:ext cx="48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孟子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两章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324000" y="442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释重点字词并翻译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324000" y="561960"/>
            <a:ext cx="860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天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地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地利不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人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三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七里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攻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胜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夫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攻之，必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时者矣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然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胜者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时不如地利也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城非不高也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不深也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兵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坚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，米粟非不多也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，是地利不如人和也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民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封疆之界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固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溪之险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下不以兵革之利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得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者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多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失道者寡助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寡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亲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多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至，天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顺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顺，攻亲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故君子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战，战必胜矣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“以”字的用法，不相同的一项是（    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固国不以山溪之险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以天下之所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寡人以五百里之地易安陵（《唐雎不辱使命》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属予作文以记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翻译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1280" y="14032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天时不如地利，地利不如人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里之城，七里之郭，环而攻之而不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域民不以封疆之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国不以山溪之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威天下不以兵革之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天下之所顺，攻亲戚之所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学习本文开头提出论点后逐层论证的写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说出文中“道”指代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自己的话说说“得道多助”的时代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97800" y="911160"/>
            <a:ext cx="48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道是什么？它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人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何关系？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2158560" y="2381400"/>
            <a:ext cx="450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”即指仁政。“得道”就是施行仁政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施行仁政则“多助”，“多助”则“天下顺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”，这就是“人和”，即得到人民的支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持和拥护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0" y="0"/>
          <a:ext cx="9747360" cy="7343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747360" cy="73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3"/>
          <p:cNvSpPr/>
          <p:nvPr/>
        </p:nvSpPr>
        <p:spPr>
          <a:xfrm>
            <a:off x="0" y="190512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本文的中心论点是什么？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2286000"/>
            <a:ext cx="79246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时不如地利，地利不如人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孟子提出三个概念：天时、地利、人和，并将这三者加以比较，层层推进。用两个“不如”强调了“人和”的重要性。三者之间的比较，实质上是重在前者与后者的比较，强调指出各种客观及诸多因素在战争中都比不上人的主观条件及“人和”的因素，决定战争胜负的是人而不是物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50840" y="223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960920" y="4777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论点：天时不如地利，地利不如人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105768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论据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67080" y="1644480"/>
            <a:ext cx="64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宋体"/>
              </a:rPr>
              <a:t>{</a:t>
            </a:r>
            <a:endParaRPr b="0" lang="en-US" sz="9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42928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进攻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3154320" y="1874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416124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天时不如地利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9" name="Text Box 8"/>
          <p:cNvSpPr/>
          <p:nvPr/>
        </p:nvSpPr>
        <p:spPr>
          <a:xfrm>
            <a:off x="2429280" y="24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防御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0" name="Text Box 9"/>
          <p:cNvSpPr/>
          <p:nvPr/>
        </p:nvSpPr>
        <p:spPr>
          <a:xfrm>
            <a:off x="3257640" y="2498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4237560" y="243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地利不如人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1014480" y="1151280"/>
            <a:ext cx="10033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</a:rPr>
              <a:t>→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1047960" y="26668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</a:rPr>
              <a:t>↓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105768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类推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1600200" y="3200400"/>
            <a:ext cx="94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宋体"/>
              </a:rPr>
              <a:t>{</a:t>
            </a:r>
            <a:endParaRPr b="0" lang="en-US" sz="9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5866200" y="1523880"/>
            <a:ext cx="64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宋体"/>
              </a:rPr>
              <a:t>}</a:t>
            </a:r>
            <a:endParaRPr b="0" lang="en-US" sz="9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6831720" y="21747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战争需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人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8" name="Text Box 17"/>
          <p:cNvSpPr/>
          <p:nvPr/>
        </p:nvSpPr>
        <p:spPr>
          <a:xfrm>
            <a:off x="2455920" y="32925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域民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9" name="Text Box 18"/>
          <p:cNvSpPr/>
          <p:nvPr/>
        </p:nvSpPr>
        <p:spPr>
          <a:xfrm>
            <a:off x="2565720" y="390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固国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257652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威天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100400" y="385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——————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2" name="Text Box 21"/>
          <p:cNvSpPr/>
          <p:nvPr/>
        </p:nvSpPr>
        <p:spPr>
          <a:xfrm>
            <a:off x="6831720" y="385128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治国需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人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3" name="Text Box 22"/>
          <p:cNvSpPr/>
          <p:nvPr/>
        </p:nvSpPr>
        <p:spPr>
          <a:xfrm>
            <a:off x="1047960" y="44956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</a:rPr>
              <a:t>↓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4" name="Text Box 23"/>
          <p:cNvSpPr/>
          <p:nvPr/>
        </p:nvSpPr>
        <p:spPr>
          <a:xfrm>
            <a:off x="119412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结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5" name="Text Box 24"/>
          <p:cNvSpPr/>
          <p:nvPr/>
        </p:nvSpPr>
        <p:spPr>
          <a:xfrm>
            <a:off x="2193840" y="548640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得道多助，失道寡助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194480" y="380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品味孟子语言特色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2103840" y="131904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文章的第三段运用什么句式？有什么表达效果？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380880" y="2362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85800" y="32767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文章第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段运用什么句式？有什么效果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2240280" y="3987720"/>
            <a:ext cx="4317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排比句，再次强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对比手法，把“得道者”与“失道者”的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果进行对比，点明文章主旨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316600" y="210168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归纳；运用双重否定排比句，起肯定、加强语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势的作用，极言防御一方地理条件的优越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1347120" y="522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拓展延伸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098160" y="1824120"/>
            <a:ext cx="233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、从古至今有哪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得道多助，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失道寡助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例子？举例反思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651480" y="3276720"/>
            <a:ext cx="18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、结合《政治》，《历史》说说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如何保证我国安定团结的政治局面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6" name="雍正王朝.wma" descr=""/>
          <p:cNvPicPr/>
          <p:nvPr/>
        </p:nvPicPr>
        <p:blipFill>
          <a:blip r:embed="rId2"/>
          <a:stretch/>
        </p:blipFill>
        <p:spPr>
          <a:xfrm>
            <a:off x="7010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4"/>
          <p:cNvSpPr/>
          <p:nvPr/>
        </p:nvSpPr>
        <p:spPr>
          <a:xfrm>
            <a:off x="1651680" y="426960"/>
            <a:ext cx="2619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数英雄论成败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古今谁能说明白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千秋功罪任评说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海雨天风独往来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一心要江山图治垂青史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也难说身后骂名滚滚来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有道是人间万苦人最苦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终不悔九死落尘埃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有道是得民心者得天下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看江山由谁来主宰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得民心者得天下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看江山由谁来主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5220720" y="379440"/>
            <a:ext cx="254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视剧《雍正王朝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题曲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54080" y="155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简介：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2556000" y="907920"/>
            <a:ext cx="61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孟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约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72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89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，名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字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子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战国中期邹国（今山东邹县东南人），离孔子的故乡曲阜不远。是著名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思想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政治家、教育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孔子学说的继承者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儒家的重要代表人物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孟子继承和发展了孔子的德治思想，发展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仁政学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成为其政治思想的核心。（仁政、王道）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孟子把伦理和政治紧密结合起来，强调道德修养是搞好政治的根本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24" name="Picture 4" descr="图片2"/>
          <p:cNvPicPr/>
          <p:nvPr/>
        </p:nvPicPr>
        <p:blipFill>
          <a:blip r:embed="rId2"/>
          <a:stretch/>
        </p:blipFill>
        <p:spPr>
          <a:xfrm>
            <a:off x="155520" y="907920"/>
            <a:ext cx="24019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2585880"/>
            <a:ext cx="914400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0" y="51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练习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1461960"/>
            <a:ext cx="9145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《得道多助　失道寡助》的中心论点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提出的著名论断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中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下面哪个词中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思相近？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道德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道歉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道路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王道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战必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根本原因是（原文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和”在文中的含义是什么？请你结合历史或现实，再举出一个相关的事例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324000" y="20574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生于忧患，死于安乐</a:t>
            </a:r>
            <a:endParaRPr b="0" lang="en-US" sz="7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67200" y="700560"/>
            <a:ext cx="366228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朗读课文、读准字音、节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说出重要词语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能准确的翻译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根据译文背诵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Tahoma"/>
                <a:ea typeface="隶书"/>
              </a:rPr>
              <a:t>读准下列加点词的字音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畎（       ）亩     傅说（      ）    胶鬲（    ）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孙叔敖（    ）   百里奚（     ）   行拂（     ）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曾（         ）益      拂（     ）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914400" y="204156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6858000" y="198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752480" y="32004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419720" y="318456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858000" y="318456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914400" y="4419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4114800" y="4403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88360" y="1828800"/>
            <a:ext cx="12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quǎ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4816440" y="18288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yuè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762012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c50"/>
                </a:solidFill>
                <a:latin typeface="Comic Sans MS"/>
              </a:rPr>
              <a:t>g</a:t>
            </a: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é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2133720" y="2971800"/>
            <a:ext cx="7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áo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5116680" y="2971800"/>
            <a:ext cx="5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xī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7696080" y="29718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fú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1" name="Text Box 18"/>
          <p:cNvSpPr/>
          <p:nvPr/>
        </p:nvSpPr>
        <p:spPr>
          <a:xfrm>
            <a:off x="1447920" y="4191120"/>
            <a:ext cx="11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zēng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4876920" y="4191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bì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4251240" y="2057400"/>
            <a:ext cx="3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395280" y="333360"/>
            <a:ext cx="82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quǎ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亩之中，傅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u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版筑之间，胶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鱼盐之中，管夷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，孙叔敖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，百里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市，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将降大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人也，必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苦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志，劳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筋骨，饿 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肤，空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身，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f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所为，所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忍性，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ē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所不能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恒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能改，困于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衡于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后作；征于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于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后喻。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无法家拂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b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，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无敌国外患者，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恒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忧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死于安乐也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324000" y="0"/>
            <a:ext cx="88200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发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畎亩之中，傅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版筑之间，胶鬲举于鱼盐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管夷吾举于士，孙叔敖举于海，百里奚举于市。故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将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任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也，必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心志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筋骨。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肤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空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身，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乱其所为，所以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益其所不能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24000" y="76500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起，被任用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692520" y="765000"/>
            <a:ext cx="21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被选拔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2244600" y="34322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此，这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4067280" y="3402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痛苦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5823000" y="314172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劳累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7696080" y="314172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饥饿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201680" y="4654440"/>
            <a:ext cx="16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贫困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5425920" y="46544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惊动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6918480" y="46544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坚韧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3348000" y="465444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违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24000" y="585144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通“增”增加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然后能改，困于心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衡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虑而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征于色发于声而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无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法家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士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无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敌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患者，国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亡，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知生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忧患而死于安乐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161928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常常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3276720" y="134136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通“横”，梗塞，不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7165800" y="1341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有所作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348948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了解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5940360" y="2349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通“弼”，辅佐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3" name="Text Box 21"/>
          <p:cNvSpPr/>
          <p:nvPr/>
        </p:nvSpPr>
        <p:spPr>
          <a:xfrm>
            <a:off x="4500720" y="347508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往往 常常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4500720" y="234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在国内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898560" y="342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在国外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838080"/>
            <a:ext cx="87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于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8" name="AutoShape 5"/>
          <p:cNvSpPr/>
          <p:nvPr/>
        </p:nvSpPr>
        <p:spPr>
          <a:xfrm>
            <a:off x="1066680" y="5335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077880" y="1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5639760" y="143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7597080" y="83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5257800" y="203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于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1371600" y="1922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发于畎亩  举于版筑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1371600" y="14954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天将降大任于是人也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2521440" y="84924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困于心 衡于虑 征于色 发于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6" name="Rectangle 13"/>
          <p:cNvSpPr/>
          <p:nvPr/>
        </p:nvSpPr>
        <p:spPr>
          <a:xfrm>
            <a:off x="2050200" y="21160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生于忧患 死于安乐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228600" y="2816280"/>
            <a:ext cx="8458200" cy="764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使动用法：形容词作使动词用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76320" y="378936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苦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痛苦      劳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劳累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饿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饥饿       空乏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资财贫乏  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惊动        忍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坚韧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Tahoma"/>
                <a:ea typeface="隶书"/>
              </a:rPr>
              <a:t>  </a:t>
            </a:r>
            <a:r>
              <a:rPr b="1" lang="zh-CN" sz="5400" spc="-1" strike="noStrike" u="sng">
                <a:solidFill>
                  <a:srgbClr val="010199"/>
                </a:solidFill>
                <a:uFillTx/>
                <a:latin typeface="Tahoma"/>
                <a:ea typeface="隶书"/>
              </a:rPr>
              <a:t>通假字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-73440" y="1905120"/>
            <a:ext cx="883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10199"/>
                </a:solidFill>
                <a:latin typeface="Tahoma"/>
              </a:rPr>
              <a:t>曾：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通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增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，增加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10199"/>
                </a:solidFill>
                <a:latin typeface="Tahoma"/>
              </a:rPr>
              <a:t>衡：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通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横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，堵塞，不顺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10199"/>
                </a:solidFill>
                <a:latin typeface="Tahoma"/>
              </a:rPr>
              <a:t>拂：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通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弼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，辅弼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-149760"/>
            <a:ext cx="854064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细读课文，思考问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2280" y="1196640"/>
            <a:ext cx="8839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课文中心论点是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课文开头列举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名人有何用意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一个人经受磨练有何好处？（原句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课文第二段找出能分别论证“生于忧患”和“死于安乐”的句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课文使用了那些论证方法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116676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品简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26" name="Picture 4" descr="孟子寿"/>
          <p:cNvPicPr/>
          <p:nvPr/>
        </p:nvPicPr>
        <p:blipFill>
          <a:blip r:embed="rId2"/>
          <a:stretch/>
        </p:blipFill>
        <p:spPr>
          <a:xfrm>
            <a:off x="324000" y="1557360"/>
            <a:ext cx="2808000" cy="40323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5"/>
          <p:cNvSpPr/>
          <p:nvPr/>
        </p:nvSpPr>
        <p:spPr>
          <a:xfrm>
            <a:off x="3059280" y="620640"/>
            <a:ext cx="55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孟子及其门人所作，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儒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典之一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记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主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录体散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其中有许多长篇大论，气势磅礴，议论尖锐、机智而雄辩，对后世的散文写作产生了深刻的影响。 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574" name="Oval 3"/>
          <p:cNvSpPr/>
          <p:nvPr/>
        </p:nvSpPr>
        <p:spPr>
          <a:xfrm>
            <a:off x="228600" y="304920"/>
            <a:ext cx="2438280" cy="838080"/>
          </a:xfrm>
          <a:prstGeom prst="ellipse">
            <a:avLst/>
          </a:prstGeom>
          <a:gradFill rotWithShape="0">
            <a:gsLst>
              <a:gs pos="0">
                <a:srgbClr val="eae8e2"/>
              </a:gs>
              <a:gs pos="50000">
                <a:srgbClr val="ffff99"/>
              </a:gs>
              <a:gs pos="100000">
                <a:srgbClr val="eae8e2"/>
              </a:gs>
            </a:gsLst>
            <a:lin ang="5400000"/>
          </a:gra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406a6"/>
                </a:solidFill>
                <a:latin typeface="Times New Roman"/>
                <a:ea typeface="华文新魏"/>
              </a:rPr>
              <a:t>理解课文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914400" y="1676520"/>
            <a:ext cx="2286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舜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傅说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胶鬲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管夷吾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孙叔敖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里奚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2819520" y="9907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362320" y="1600200"/>
            <a:ext cx="144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2666880" y="1676520"/>
            <a:ext cx="1067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畎亩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版筑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鱼盐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士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海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4876920" y="1066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4724280" y="1674720"/>
            <a:ext cx="1828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君主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辅佐武王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令尹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夫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1" name="Line 10"/>
          <p:cNvSpPr/>
          <p:nvPr/>
        </p:nvSpPr>
        <p:spPr>
          <a:xfrm>
            <a:off x="3657600" y="1981080"/>
            <a:ext cx="106668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2" name="Line 11"/>
          <p:cNvSpPr/>
          <p:nvPr/>
        </p:nvSpPr>
        <p:spPr>
          <a:xfrm>
            <a:off x="3657600" y="2666880"/>
            <a:ext cx="106668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3" name="Line 12"/>
          <p:cNvSpPr/>
          <p:nvPr/>
        </p:nvSpPr>
        <p:spPr>
          <a:xfrm>
            <a:off x="3657600" y="3429000"/>
            <a:ext cx="106668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3581280" y="4114800"/>
            <a:ext cx="106704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5" name="Line 14"/>
          <p:cNvSpPr/>
          <p:nvPr/>
        </p:nvSpPr>
        <p:spPr>
          <a:xfrm>
            <a:off x="3581280" y="4876920"/>
            <a:ext cx="106704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6" name="Line 15"/>
          <p:cNvSpPr/>
          <p:nvPr/>
        </p:nvSpPr>
        <p:spPr>
          <a:xfrm>
            <a:off x="3581280" y="5638680"/>
            <a:ext cx="106704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6248520" y="1768320"/>
            <a:ext cx="609480" cy="3886200"/>
          </a:xfrm>
          <a:custGeom>
            <a:avLst/>
            <a:gdLst>
              <a:gd name="textAreaLeft" fmla="*/ 0 w 609480"/>
              <a:gd name="textAreaRight" fmla="*/ 219960 w 60948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6858000" y="2057400"/>
            <a:ext cx="2286000" cy="253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举例论证人才必须在艰苦的环境中造就的道理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9" name="Rectangle 18"/>
          <p:cNvSpPr/>
          <p:nvPr/>
        </p:nvSpPr>
        <p:spPr>
          <a:xfrm>
            <a:off x="7162920" y="2057400"/>
            <a:ext cx="1371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457200" y="76212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故天将降大任于是人也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必先苦其心志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   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劳其筋骨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饿其体肤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空乏其身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拂乱其所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动心忍性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曾益其所不能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609480" y="5029200"/>
            <a:ext cx="800100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3" name="Text Box 15"/>
          <p:cNvSpPr/>
          <p:nvPr/>
        </p:nvSpPr>
        <p:spPr>
          <a:xfrm>
            <a:off x="609480" y="4876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六个事例作为事实论据的基础上，得出结论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5"/>
          <p:cNvSpPr/>
          <p:nvPr/>
        </p:nvSpPr>
        <p:spPr>
          <a:xfrm>
            <a:off x="0" y="685800"/>
            <a:ext cx="86868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恒过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能改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困于心衡于虑而后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征于色发于声而后喻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入则无法家拂士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则无敌国外患者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恒亡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然后知生于忧患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而死于安乐也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8115480" y="44280"/>
            <a:ext cx="1143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人</a:t>
            </a:r>
            <a:r>
              <a:rPr b="1" lang="zh-CN" sz="3200" spc="-1" strike="noStrike">
                <a:solidFill>
                  <a:srgbClr val="00ccff"/>
                </a:solidFill>
                <a:latin typeface="华文新魏"/>
                <a:ea typeface="华文新魏"/>
              </a:rPr>
              <a:t>正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于忧患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7" name="AutoShape 14"/>
          <p:cNvSpPr/>
          <p:nvPr/>
        </p:nvSpPr>
        <p:spPr>
          <a:xfrm>
            <a:off x="7391520" y="35514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45"/>
                </a:lnTo>
                <a:cubicBezTo>
                  <a:pt x="10800" y="10145"/>
                  <a:pt x="16200" y="11045"/>
                  <a:pt x="21600" y="11045"/>
                </a:cubicBezTo>
                <a:cubicBezTo>
                  <a:pt x="16200" y="11045"/>
                  <a:pt x="10800" y="11945"/>
                  <a:pt x="10800" y="1284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7848720" y="321300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国家  </a:t>
            </a:r>
            <a:r>
              <a:rPr b="1" lang="zh-CN" sz="3200" spc="-1" strike="noStrike">
                <a:solidFill>
                  <a:srgbClr val="00ccff"/>
                </a:solidFill>
                <a:latin typeface="华文新魏"/>
                <a:ea typeface="华文新魏"/>
              </a:rPr>
              <a:t>反面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死于安乐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9" name="AutoShape 14"/>
          <p:cNvSpPr/>
          <p:nvPr/>
        </p:nvSpPr>
        <p:spPr>
          <a:xfrm>
            <a:off x="7924680" y="88596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45"/>
                </a:lnTo>
                <a:cubicBezTo>
                  <a:pt x="10800" y="10145"/>
                  <a:pt x="16200" y="11045"/>
                  <a:pt x="21600" y="11045"/>
                </a:cubicBezTo>
                <a:cubicBezTo>
                  <a:pt x="16200" y="11045"/>
                  <a:pt x="10800" y="11945"/>
                  <a:pt x="10800" y="1284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876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仲尼厄而作《春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孔子"/>
          <p:cNvPicPr/>
          <p:nvPr/>
        </p:nvPicPr>
        <p:blipFill>
          <a:blip r:embed="rId2"/>
          <a:stretch/>
        </p:blipFill>
        <p:spPr>
          <a:xfrm>
            <a:off x="0" y="0"/>
            <a:ext cx="3086280" cy="3809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tu1"/>
          <p:cNvPicPr/>
          <p:nvPr/>
        </p:nvPicPr>
        <p:blipFill>
          <a:blip r:embed="rId3"/>
          <a:stretch/>
        </p:blipFill>
        <p:spPr>
          <a:xfrm>
            <a:off x="5651640" y="1219320"/>
            <a:ext cx="3492360" cy="5638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韩非"/>
          <p:cNvPicPr/>
          <p:nvPr/>
        </p:nvPicPr>
        <p:blipFill>
          <a:blip r:embed="rId4"/>
          <a:stretch/>
        </p:blipFill>
        <p:spPr>
          <a:xfrm>
            <a:off x="3348000" y="2205000"/>
            <a:ext cx="2182680" cy="26668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6"/>
          <p:cNvSpPr/>
          <p:nvPr/>
        </p:nvSpPr>
        <p:spPr>
          <a:xfrm>
            <a:off x="539640" y="4869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韩非囚秦，《说难》、《孤愤》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5796000" y="1268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屈原放逐，乃赋《离骚》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0560" y="4221000"/>
            <a:ext cx="360036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曹雪芹举家食粥而写出了不朽的《红楼梦》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3" descr="曹雪芹"/>
          <p:cNvPicPr/>
          <p:nvPr/>
        </p:nvPicPr>
        <p:blipFill>
          <a:blip r:embed="rId2"/>
          <a:stretch/>
        </p:blipFill>
        <p:spPr>
          <a:xfrm>
            <a:off x="0" y="0"/>
            <a:ext cx="3286080" cy="403848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4"/>
          <p:cNvSpPr/>
          <p:nvPr/>
        </p:nvSpPr>
        <p:spPr>
          <a:xfrm>
            <a:off x="3276720" y="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迪生小时候一边卖报一边作化学试验。有一次，不慎在火车上引起了火，被车长打聋了一只耳朵。由于他的刻苦努力，终于成为举世闻名的发明家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09" name="Picture 5" descr="未标题-61"/>
          <p:cNvPicPr/>
          <p:nvPr/>
        </p:nvPicPr>
        <p:blipFill>
          <a:blip r:embed="rId3"/>
          <a:stretch/>
        </p:blipFill>
        <p:spPr>
          <a:xfrm>
            <a:off x="3657600" y="2997360"/>
            <a:ext cx="5486400" cy="38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bdf"/>
          <p:cNvPicPr/>
          <p:nvPr/>
        </p:nvPicPr>
        <p:blipFill>
          <a:blip r:embed="rId3"/>
          <a:stretch/>
        </p:blipFill>
        <p:spPr>
          <a:xfrm>
            <a:off x="250920" y="476280"/>
            <a:ext cx="3882960" cy="54626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4"/>
          <p:cNvSpPr/>
          <p:nvPr/>
        </p:nvSpPr>
        <p:spPr>
          <a:xfrm>
            <a:off x="4716360" y="126828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贝多芬即使在双耳失聪的情况下，仍然坚持音乐创作。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8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228600" y="609480"/>
            <a:ext cx="8077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西伯拘而演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易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仲尼厄而作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秋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屈原放逐乃赋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骚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丘失明厥有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语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司马迁受宫刑而著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史记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曹雪芹晚年衣食不保而留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楼梦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6019920" y="685800"/>
            <a:ext cx="2514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6400800" y="2133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971800" y="55627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276720" y="57150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6019920" y="685800"/>
            <a:ext cx="2438280" cy="37339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324480" y="9907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寒，然后知松柏之后凋也。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396720" y="48888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了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于忧患，死于安乐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你有哪些启示？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7640" y="-33480"/>
            <a:ext cx="75438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习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23640" y="110484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解释红色划线的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傅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版筑之间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故天将降大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心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虑而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出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敌国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用现代汉语写出下列句子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饿其体肤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人恒过然后能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先苦其心志，劳其筋骨，饿 其体肤，空乏其身，行拂乱其所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7619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加点字意义和用法相同的一项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先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志        行拂乱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困于心衡于虑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作      出淤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舜发于畎亩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          宋何罪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天将降大任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人也    贤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材人远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选出下列加点词词义相同的一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故天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降大任于是人也    上使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傅说举于版筑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       在乎山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人恒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然后能改       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岳殿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征于色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声         野芳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幽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826920" y="2205000"/>
            <a:ext cx="756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得道多助，失道寡助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000" y="6966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作者认为一个国家走向衰败灭亡的原因是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（用原文回答）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179280" y="333360"/>
            <a:ext cx="8763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学习目标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能够准确、流利地朗读课文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解释文中重要词语的意思，并在此基础上正确、流畅地翻译课文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自己的话说出“天时、地利、人和”、“得道多助， 失道寡助”   的含义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848240" y="1316520"/>
            <a:ext cx="463464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课文朗读，要求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050560" y="1197000"/>
            <a:ext cx="6683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注意朗读的节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注意生字词的读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初步理解课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31680"/>
            <a:ext cx="83059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时不如地利，地利不如人和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里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七里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攻之而不胜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而攻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，必有得天时者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然而不胜者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时不如地利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。城非不高也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不深也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兵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不坚利也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米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不多也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，是地利不如人和也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1828800" y="205740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838080" y="1843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内城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2781360" y="181296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外城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3657600" y="1843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围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6172200" y="179856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语气词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3505320" y="1798560"/>
            <a:ext cx="3047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4648320" y="35053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甲衣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兵器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武器装备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50292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-184320" y="4449600"/>
            <a:ext cx="29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米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谷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泛指粮食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362320" y="4449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放弃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3" name="Text Box 13"/>
          <p:cNvSpPr/>
          <p:nvPr/>
        </p:nvSpPr>
        <p:spPr>
          <a:xfrm>
            <a:off x="3505320" y="4449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离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2476440" y="3505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护城河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5" name="Text Box 15"/>
          <p:cNvSpPr/>
          <p:nvPr/>
        </p:nvSpPr>
        <p:spPr>
          <a:xfrm>
            <a:off x="5372280" y="27129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这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6" name="Text Box 16"/>
          <p:cNvSpPr/>
          <p:nvPr/>
        </p:nvSpPr>
        <p:spPr>
          <a:xfrm>
            <a:off x="64771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458640" y="685800"/>
            <a:ext cx="8363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故曰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民不以封疆之界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不以山溪之险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下不以兵革之利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得道者多助，失道者寡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寡助之至，亲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。多助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至，天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。以天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之所顺，攻亲戚之所畔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故君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战，战必胜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1828800" y="762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76000" y="1203120"/>
            <a:ext cx="1600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限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5122800" y="1219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巩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257040" y="2454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威震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2133720" y="3718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通叛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背叛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4741920" y="3718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到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6588000" y="371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归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2762280" y="5929200"/>
            <a:ext cx="605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所以君子不战则已，战就一定胜利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5122800" y="504360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么，或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92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检测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1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孟子，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代人，他是孔子以后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《孟子》是一部记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1:27:27Z</dcterms:created>
  <dc:creator>Administrator</dc:creator>
  <dc:description/>
  <cp:keywords/>
  <dc:language>en-US</dc:language>
  <cp:lastModifiedBy>zmj</cp:lastModifiedBy>
  <dcterms:modified xsi:type="dcterms:W3CDTF">2012-12-09T11:46:32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